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6B36-4BD4-4F7C-8E8F-F0156284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10C-9AF5-4966-B766-0E4B6038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AE0-2B0B-4276-8091-9DFB010A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B67-E74A-4F15-A32B-D485B88E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0190-06E0-4A4D-ACC4-8C07DF34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2BC5-496A-4FCF-A141-C422BBA5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ED62-9A67-47BE-A183-961386E5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1762-F5D4-47CD-82DC-BC2C2496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20E6-7EF1-4715-A4AD-5CB7248A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47C0-58DB-4A7B-8EC8-E1970DED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F893-F082-49E0-BBDC-58E7B817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DB3-908D-4F81-B8C2-98FCA0D3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66C0-D48D-46B0-BE54-DDA093E0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E276-291E-453E-AB78-2D1E5A2B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7659-3A6C-4E32-A165-6296FDA9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388F-5766-47D5-827F-7B9EF61B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DB8B-4D6E-4D35-B7D7-8B045037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7A7A-7239-4837-8F13-1AC5880D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FCD3-6E59-490C-A8E2-FB41D02B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44F5-9099-4D90-B4BB-B2942055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8039-84F1-4BEF-9C13-35E7EB56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626D-E7B9-4E44-AA72-574D88DC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50E-405B-4A55-994A-FAFCB594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30E-D211-4B9C-827B-EB1D14C2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F2C9-D540-410D-9D53-FCE62314F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79D1-E29C-44B2-92DA-74D3FE061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1 Midwest States and Capi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 Handle st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Freeform 6"/>
          <p:cNvSpPr/>
          <p:nvPr/>
        </p:nvSpPr>
        <p:spPr>
          <a:xfrm>
            <a:off x="3276720" y="3429000"/>
            <a:ext cx="11430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klahoma, Oklahoma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ut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of soup in the pan.  He wanted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Pe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t the soup in the pa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Freeform 6"/>
          <p:cNvSpPr/>
          <p:nvPr/>
        </p:nvSpPr>
        <p:spPr>
          <a:xfrm>
            <a:off x="3276720" y="2971800"/>
            <a:ext cx="11430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nsas, Tope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n shaped state / president shot.  Lincoln in the state of Nebrask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Freeform 6"/>
          <p:cNvSpPr/>
          <p:nvPr/>
        </p:nvSpPr>
        <p:spPr>
          <a:xfrm>
            <a:off x="3200400" y="2666880"/>
            <a:ext cx="106668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braska, Lincol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he was shot, he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 thirsty.  He asked for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ier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wa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Freeform 6"/>
          <p:cNvSpPr/>
          <p:nvPr/>
        </p:nvSpPr>
        <p:spPr>
          <a:xfrm>
            <a:off x="3124080" y="2286000"/>
            <a:ext cx="106704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uth Dakota, Pier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bt he was hungry as well.  Asked for pancakes made from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isqu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Freeform 6"/>
          <p:cNvSpPr/>
          <p:nvPr/>
        </p:nvSpPr>
        <p:spPr>
          <a:xfrm>
            <a:off x="3124080" y="1828800"/>
            <a:ext cx="106704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rth Dakota, Bismar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1" name="Freeform 7"/>
          <p:cNvSpPr/>
          <p:nvPr/>
        </p:nvSpPr>
        <p:spPr>
          <a:xfrm>
            <a:off x="3657600" y="1828800"/>
            <a:ext cx="1498680" cy="2995560"/>
          </a:xfrm>
          <a:custGeom>
            <a:avLst/>
            <a:gdLst/>
            <a:ahLst/>
            <a:rect l="l" t="t" r="r" b="b"/>
            <a:pathLst>
              <a:path w="944" h="1887">
                <a:moveTo>
                  <a:pt x="112" y="0"/>
                </a:moveTo>
                <a:cubicBezTo>
                  <a:pt x="106" y="74"/>
                  <a:pt x="103" y="147"/>
                  <a:pt x="85" y="219"/>
                </a:cubicBezTo>
                <a:cubicBezTo>
                  <a:pt x="86" y="293"/>
                  <a:pt x="0" y="717"/>
                  <a:pt x="158" y="768"/>
                </a:cubicBezTo>
                <a:cubicBezTo>
                  <a:pt x="165" y="825"/>
                  <a:pt x="176" y="869"/>
                  <a:pt x="194" y="923"/>
                </a:cubicBezTo>
                <a:cubicBezTo>
                  <a:pt x="197" y="932"/>
                  <a:pt x="213" y="929"/>
                  <a:pt x="222" y="932"/>
                </a:cubicBezTo>
                <a:cubicBezTo>
                  <a:pt x="228" y="951"/>
                  <a:pt x="244" y="967"/>
                  <a:pt x="249" y="987"/>
                </a:cubicBezTo>
                <a:cubicBezTo>
                  <a:pt x="262" y="1040"/>
                  <a:pt x="259" y="1075"/>
                  <a:pt x="277" y="1124"/>
                </a:cubicBezTo>
                <a:cubicBezTo>
                  <a:pt x="280" y="1338"/>
                  <a:pt x="128" y="1696"/>
                  <a:pt x="331" y="1764"/>
                </a:cubicBezTo>
                <a:cubicBezTo>
                  <a:pt x="370" y="1803"/>
                  <a:pt x="399" y="1811"/>
                  <a:pt x="450" y="1828"/>
                </a:cubicBezTo>
                <a:cubicBezTo>
                  <a:pt x="593" y="1825"/>
                  <a:pt x="754" y="1887"/>
                  <a:pt x="880" y="1819"/>
                </a:cubicBezTo>
                <a:cubicBezTo>
                  <a:pt x="944" y="1784"/>
                  <a:pt x="876" y="1673"/>
                  <a:pt x="871" y="1600"/>
                </a:cubicBezTo>
                <a:cubicBezTo>
                  <a:pt x="867" y="1549"/>
                  <a:pt x="797" y="1503"/>
                  <a:pt x="779" y="1453"/>
                </a:cubicBezTo>
                <a:cubicBezTo>
                  <a:pt x="786" y="1330"/>
                  <a:pt x="767" y="1269"/>
                  <a:pt x="843" y="1188"/>
                </a:cubicBezTo>
                <a:cubicBezTo>
                  <a:pt x="837" y="1038"/>
                  <a:pt x="864" y="976"/>
                  <a:pt x="770" y="887"/>
                </a:cubicBezTo>
                <a:cubicBezTo>
                  <a:pt x="749" y="824"/>
                  <a:pt x="765" y="846"/>
                  <a:pt x="734" y="813"/>
                </a:cubicBezTo>
                <a:cubicBezTo>
                  <a:pt x="714" y="757"/>
                  <a:pt x="690" y="699"/>
                  <a:pt x="679" y="640"/>
                </a:cubicBezTo>
                <a:cubicBezTo>
                  <a:pt x="663" y="552"/>
                  <a:pt x="668" y="491"/>
                  <a:pt x="587" y="439"/>
                </a:cubicBezTo>
                <a:cubicBezTo>
                  <a:pt x="553" y="334"/>
                  <a:pt x="568" y="403"/>
                  <a:pt x="578" y="228"/>
                </a:cubicBezTo>
                <a:cubicBezTo>
                  <a:pt x="574" y="179"/>
                  <a:pt x="595" y="117"/>
                  <a:pt x="560" y="82"/>
                </a:cubicBezTo>
                <a:cubicBezTo>
                  <a:pt x="553" y="75"/>
                  <a:pt x="542" y="77"/>
                  <a:pt x="533" y="73"/>
                </a:cubicBezTo>
                <a:cubicBezTo>
                  <a:pt x="428" y="21"/>
                  <a:pt x="416" y="34"/>
                  <a:pt x="258" y="27"/>
                </a:cubicBezTo>
                <a:cubicBezTo>
                  <a:pt x="193" y="5"/>
                  <a:pt x="240" y="19"/>
                  <a:pt x="112" y="0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629400" y="1752480"/>
            <a:ext cx="2057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– inneso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– ow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– issou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– rkans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- ous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6" name="Freeform 7"/>
          <p:cNvSpPr/>
          <p:nvPr/>
        </p:nvSpPr>
        <p:spPr>
          <a:xfrm>
            <a:off x="3817800" y="1892160"/>
            <a:ext cx="841680" cy="938520"/>
          </a:xfrm>
          <a:custGeom>
            <a:avLst/>
            <a:gdLst/>
            <a:ahLst/>
            <a:rect l="l" t="t" r="r" b="b"/>
            <a:pathLst>
              <a:path w="530" h="591">
                <a:moveTo>
                  <a:pt x="411" y="280"/>
                </a:moveTo>
                <a:cubicBezTo>
                  <a:pt x="422" y="149"/>
                  <a:pt x="402" y="167"/>
                  <a:pt x="512" y="152"/>
                </a:cubicBezTo>
                <a:cubicBezTo>
                  <a:pt x="509" y="131"/>
                  <a:pt x="511" y="108"/>
                  <a:pt x="502" y="88"/>
                </a:cubicBezTo>
                <a:cubicBezTo>
                  <a:pt x="498" y="78"/>
                  <a:pt x="483" y="77"/>
                  <a:pt x="475" y="70"/>
                </a:cubicBezTo>
                <a:cubicBezTo>
                  <a:pt x="389" y="0"/>
                  <a:pt x="243" y="19"/>
                  <a:pt x="146" y="15"/>
                </a:cubicBezTo>
                <a:cubicBezTo>
                  <a:pt x="73" y="21"/>
                  <a:pt x="22" y="1"/>
                  <a:pt x="0" y="70"/>
                </a:cubicBezTo>
                <a:cubicBezTo>
                  <a:pt x="3" y="91"/>
                  <a:pt x="8" y="112"/>
                  <a:pt x="9" y="134"/>
                </a:cubicBezTo>
                <a:cubicBezTo>
                  <a:pt x="14" y="225"/>
                  <a:pt x="11" y="317"/>
                  <a:pt x="18" y="408"/>
                </a:cubicBezTo>
                <a:cubicBezTo>
                  <a:pt x="20" y="427"/>
                  <a:pt x="36" y="463"/>
                  <a:pt x="36" y="463"/>
                </a:cubicBezTo>
                <a:cubicBezTo>
                  <a:pt x="39" y="487"/>
                  <a:pt x="31" y="516"/>
                  <a:pt x="45" y="536"/>
                </a:cubicBezTo>
                <a:cubicBezTo>
                  <a:pt x="56" y="552"/>
                  <a:pt x="100" y="554"/>
                  <a:pt x="100" y="554"/>
                </a:cubicBezTo>
                <a:cubicBezTo>
                  <a:pt x="222" y="551"/>
                  <a:pt x="353" y="591"/>
                  <a:pt x="466" y="545"/>
                </a:cubicBezTo>
                <a:cubicBezTo>
                  <a:pt x="530" y="519"/>
                  <a:pt x="463" y="386"/>
                  <a:pt x="420" y="371"/>
                </a:cubicBezTo>
                <a:cubicBezTo>
                  <a:pt x="411" y="345"/>
                  <a:pt x="390" y="316"/>
                  <a:pt x="411" y="289"/>
                </a:cubicBezTo>
                <a:cubicBezTo>
                  <a:pt x="418" y="280"/>
                  <a:pt x="438" y="282"/>
                  <a:pt x="438" y="271"/>
                </a:cubicBezTo>
                <a:cubicBezTo>
                  <a:pt x="438" y="262"/>
                  <a:pt x="420" y="277"/>
                  <a:pt x="411" y="280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629400" y="19810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MAL is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nd his name i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  He drink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nni Sod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nnesota, St. Pa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6324480" y="235584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has a gambling problem –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 owe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ow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 mon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 Des Moi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Freeform 7"/>
          <p:cNvSpPr/>
          <p:nvPr/>
        </p:nvSpPr>
        <p:spPr>
          <a:xfrm>
            <a:off x="3832200" y="2516040"/>
            <a:ext cx="884160" cy="695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6324480" y="4400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owa, Des Moi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got in a fight with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eff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hit in the stomach and i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se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Freeform 6"/>
          <p:cNvSpPr/>
          <p:nvPr/>
        </p:nvSpPr>
        <p:spPr>
          <a:xfrm>
            <a:off x="4038480" y="2971800"/>
            <a:ext cx="884520" cy="771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ssouri, Jefferson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248520" y="2666880"/>
            <a:ext cx="2514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likes to collect th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ttle R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in his pocke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Freeform 6"/>
          <p:cNvSpPr/>
          <p:nvPr/>
        </p:nvSpPr>
        <p:spPr>
          <a:xfrm>
            <a:off x="4191120" y="3429000"/>
            <a:ext cx="685800" cy="771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kansas, Little Ro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ear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ose Boo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Freeform 6"/>
          <p:cNvSpPr/>
          <p:nvPr/>
        </p:nvSpPr>
        <p:spPr>
          <a:xfrm>
            <a:off x="4267080" y="3962520"/>
            <a:ext cx="685800" cy="771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uisiana, Baton Rou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need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xt Aust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Freeform 6"/>
          <p:cNvSpPr/>
          <p:nvPr/>
        </p:nvSpPr>
        <p:spPr>
          <a:xfrm>
            <a:off x="2743200" y="3505320"/>
            <a:ext cx="1905120" cy="16761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as, Aust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cp:lastPrinted>2014-10-21T11:51:19Z</cp:lastPrinted>
  <dcterms:modified xsi:type="dcterms:W3CDTF">2016-10-20T13:00:50Z</dcterms:modified>
  <cp:revision>22</cp:revision>
  <dc:subject/>
  <dc:title>United States</dc:title>
</cp:coreProperties>
</file>